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D70E3-5BDA-4A7B-9F11-F2340AC319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79B91-586A-4CF6-ACD8-A845139F9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3A019-05E9-401B-92CA-E63B70C7B1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71EB0-62ED-4FE3-855D-BCC2042AA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4B7F1-E963-418B-AEB9-583980150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9C1F9-D8CA-43BB-BDBE-0D4A31E7B5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A2904-54BC-44D1-B92D-3BBA20C41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28D0B-038D-4505-9701-32F993B36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488BD-589E-43ED-8468-B7A793F1A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0D32F-160F-4C25-803D-5941F58D3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091B0-C2BE-4B07-9AF6-4108823AA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46C30-A023-4FEE-8C11-7BE893A3B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710C8-A309-434B-B4C9-209FE6FD0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26DEA-0BEE-4800-B187-1DEF46F7A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E8BE5-4842-4A05-B44D-BC15F2C35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5791B-CD2F-4B4E-B6F2-EF229011D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845BE-FF2C-4687-A91B-4F1780C1A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FFCCB-4783-435A-BC67-8F5A0B4AE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E4452-AF7C-4EE9-A075-9CFEDE3F3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36EE6-2CCC-4F0B-ACFB-E78BC354A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BDD00-51C4-4967-8F0F-2AAAD96E9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D2081-DBB0-482C-9C17-31A8DEF82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2D783-EDDC-4B55-8000-C826FFA7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95C6A-9A0A-4EDF-917C-BE7BD5B1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C8725-D534-4280-BB17-E0CC5F7EC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F1103-26DB-4F88-82BA-AF5105F18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1647C-9E24-4714-B401-86F480F33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8958C-17F9-46F9-95A7-AC2133969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10405-F1CF-4EB1-B5E1-7F85B7197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8F1DC-C540-4DB2-8477-D34FFCD48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5B504-BC7C-4876-8AB5-CED86E6B1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51146-A311-4DBF-8B6C-291D100AD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AF07D-22A5-4E0B-9FB0-DC5328BB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869F0-192D-40A4-BD41-518E2758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34859-7B76-47D0-AB8E-277883CFBCD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B854B-DCFB-4B21-91B9-4876024245C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U.S. Policies Affecting Food and Agricultural Marketing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lter J. Armbrus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nald D. Knuts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 Bold"/>
              </a:rPr>
              <a:t>Recent U.S. policy developm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66"/>
                </a:solidFill>
                <a:latin typeface="Garamond"/>
              </a:rPr>
              <a:t>Bioterrorism Ac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Garamond"/>
              </a:rPr>
              <a:t>First to introduce traceabilit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66"/>
                </a:solidFill>
                <a:latin typeface="Garamond"/>
              </a:rPr>
              <a:t>Food Safety Modernization Act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Garamond"/>
              </a:rPr>
              <a:t>Preventive control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Garamond"/>
              </a:rPr>
              <a:t>Inspection and complianc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Garamond"/>
              </a:rPr>
              <a:t>Imported food safet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Garamond"/>
              </a:rPr>
              <a:t>Respons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Garamond"/>
              </a:rPr>
              <a:t>Enhanced partnership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conomic impacts on food marke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Technical efficienc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To what extent can regulations lead to cost savings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Allocative efficienc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Previous research suggests risk based regulations increase concentr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Dynamic efficienc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Economic theory suggests performance standards foster innovation and adapt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Do we need a comprehensive framework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Nonmarket impac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ood safety and traceability improvements impact public health outcom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However, there are concerns over wide access to safe foo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Measuring nonmarket impacts is challeng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There are no clear cut ways to measure “distributive justice” of alternative polic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03040" y="549360"/>
            <a:ext cx="86868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at is on the horizon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859464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16440" indent="-316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Globalization of food supply is creating new challenge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3240" indent="-2473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Increasingly entwined supply chai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3240" indent="-2473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International sourc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3240" indent="-2473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Short run contractual arrangeme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6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6440" indent="-316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The U.S. debate on a single food safety agenc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3240" indent="-2473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Pros: Risk-based, consistent, public health focus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3240" indent="-2473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Cons: Excessive centralized power, bureaucratic, budget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search need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Determine how to best define a food chain wide traceability syst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Taking into account technical and economic dimens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Ascertain to what extent new regulations will impact technical efficiencies in the food chai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Investigate whether HACCP regulations had a positive/negative impact on food innova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Develop a comprehensive framework to determine food safety policy impact on technical, allocative and dynamic efficienc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rap u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65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Food safety is critical to food marke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Traceability system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Enable a more effective management of outbreak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Contain information for enhanced risk manage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Since 1906 the U.S. has led food safety polic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In terms of institutional and regulatory innova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Over the past decade a number of private food safety schemes have emerg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These are mainly farm standard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Future challenges relate to increasing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Globalized, connected and integrated food chai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Food Safety and Traceability policies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ogo M. Souza Monteir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al H. Hook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Outlin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What is food safety and traceability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Why do we need policy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An overview of food safety policies in the U.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Who is involved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Bioterrorism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Food Safety Modernization Ac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Economic evalu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What is on the horizo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76680" y="151920"/>
            <a:ext cx="95252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at is food safety and traceability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28600" y="979560"/>
            <a:ext cx="8686800" cy="44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23640" indent="-323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Times New Roman"/>
              </a:rPr>
              <a:t>Food safety concerns the supply of wholesome and unharmful food to customers and consum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9440" indent="-252720">
              <a:lnSpc>
                <a:spcPct val="100000"/>
              </a:lnSpc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Times New Roman"/>
              </a:rPr>
              <a:t>Improving food safety is reducing a ba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9440" indent="-252720">
              <a:lnSpc>
                <a:spcPct val="100000"/>
              </a:lnSpc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Times New Roman"/>
              </a:rPr>
              <a:t>Consumers expect safe foo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Times New Roman"/>
              </a:rPr>
              <a:t>Traceability is the ability to follow the path of a product through production, processing and distribu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Times New Roman"/>
              </a:rPr>
              <a:t>Well designed and effective traceability systems may mitigate the consequences of food safety outbrea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imes New Roman"/>
              </a:rPr>
              <a:t>Why do we need policy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66"/>
                </a:solidFill>
                <a:latin typeface="Times New Roman"/>
              </a:rPr>
              <a:t>Food safety and traceability are credence attributes of foo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Times New Roman"/>
              </a:rPr>
              <a:t>Benefits are mainly avoided public health cost (public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Times New Roman"/>
              </a:rPr>
              <a:t>Costs of safer food are mainly borne by the industry (private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There are both market and government failures in the provision of these attribu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262080"/>
            <a:ext cx="91440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olution of U.S. food safety polic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99800" y="875880"/>
            <a:ext cx="8739000" cy="529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irst food safety regulation was issued in 190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12880" indent="-2779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Main purpose was to limit adulteration of foo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55680" indent="-355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DA is created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5680" indent="-355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During the 1970/80s legislation followed a command and control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12880" indent="-2779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For example, mandatory pasteurization of dairy produc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55680" indent="-355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1990 shift to science/risk based approach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12880" indent="-2779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For example, mandatory HACCP in meat and poultry plant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262080"/>
            <a:ext cx="91440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o implements these policies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99800" y="952200"/>
            <a:ext cx="8739000" cy="529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In the U.S., three Federal Departments have primary responsibilities over food safety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12880" indent="-2779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Department of Health &amp; Human Services (through FDA, CD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12880" indent="-2779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Department of Agriculture (FSIS, AMS, APHI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12880" indent="-2779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Department of Home Security (CBP, NBAC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55680" indent="-355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Two agencies have the lion’s share of oversight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12880" indent="-2779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FD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12880" indent="-2779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FSI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55680" indent="-355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tates have an important role in outbreak surveillance, prevention and mitigatio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ivate food safety and traceability standard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Since 2000, a number of retailers/caterers and food manufacturers created private standar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For example EurepGAP (now GlobalG.A.P.), a modular farm production standard with both food safety and traceability featur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Similar efforts in U.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May have emerged due to slow legislative proc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Industry initiatives may condition and anchor the regulatory proc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ivate food safety and traceability standard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Benefits of these private standards are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Garamond"/>
              </a:rPr>
              <a:t>Flexibility and dynamism (they are quickly updated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Garamond"/>
              </a:rPr>
              <a:t>Create strong incentives for farmers and processors to adopt safer practices (through preferred supplier programs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Garamond"/>
              </a:rPr>
              <a:t>Create a safer food supply to all of those purchasing from firms imposing these standard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The are however some issue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Garamond"/>
              </a:rPr>
              <a:t>Private standards do not take social welfare into accou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Garamond"/>
              </a:rPr>
              <a:t>Exclude producers and consumers that can’t comply or afford these produc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Garamond"/>
              </a:rPr>
              <a:t>There may be distribution and equity issues in the benefits and costs of food safety/traceability in food chai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3T03:39:48Z</dcterms:created>
  <dc:creator>Walt</dc:creator>
  <dc:description/>
  <dc:language>en-US</dc:language>
  <cp:lastModifiedBy>Walt</cp:lastModifiedBy>
  <dcterms:modified xsi:type="dcterms:W3CDTF">2012-06-05T15:55:35Z</dcterms:modified>
  <cp:revision>18</cp:revision>
  <dc:subject/>
  <dc:title>U.S. Policies Affecting Food and Agricultural Marketing</dc:title>
</cp:coreProperties>
</file>